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08D-B0F0-47E2-A740-5BE3E089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0B46-C16A-4AD4-8565-865BAD12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185-40B1-4543-A6C8-72ECF906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8A9-2FF0-4C88-9A44-5C39016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B86-4BEB-43F9-B581-47E0A99A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3C7-5742-4B9C-915B-2630C280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007-C834-418A-A957-2F69561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B7E-05F8-4BDF-84ED-150C0BD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AED-DCDA-4C7C-9D2C-74EF5520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C86-6A85-4478-886E-4ACA4E06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BB5-D861-4E81-896D-55849524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D41-08E3-4D78-9CFD-92B9F44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8D6-55E3-43F1-8185-2414A53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176-6DCE-4138-BD52-BA9D5E2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6D7-CC8C-4398-AA52-7C92D3BD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5/57/India-locator-map-blank.sv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lackadder ITC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990720" y="15238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Harlow Solid Italic"/>
              </a:rPr>
              <a:t>Name: Sara Houthoof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3360" y="-1008000"/>
            <a:ext cx="2219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File:India-locator-map-blank.svg">
            <a:hlinkClick r:id="rId2"/>
          </p:cNvPr>
          <p:cNvPicPr/>
          <p:nvPr/>
        </p:nvPicPr>
        <p:blipFill>
          <a:blip r:embed="rId3"/>
          <a:srcRect l="0" t="12000" r="0" b="2665"/>
          <a:stretch/>
        </p:blipFill>
        <p:spPr>
          <a:xfrm>
            <a:off x="2666880" y="2590920"/>
            <a:ext cx="3902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ddhists center of prayer and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http://m.travelpn.com/images/gangtok/hotel/1/125119/Exterior_E_1.jpg"/>
          <p:cNvPicPr/>
          <p:nvPr/>
        </p:nvPicPr>
        <p:blipFill>
          <a:blip r:embed="rId2"/>
          <a:stretch/>
        </p:blipFill>
        <p:spPr>
          <a:xfrm>
            <a:off x="2438280" y="13716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large landmass that is part of a continent but distinct from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easonal wind that blows for months at a time,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63360" y="-825480"/>
            <a:ext cx="27054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3360" y="-825480"/>
            <a:ext cx="27054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www.indiamike.com/india/attachments/1226d1089869973-kolkata-and-varanasi-during-monsoon-flood1.jpg"/>
          <p:cNvPicPr/>
          <p:nvPr/>
        </p:nvPicPr>
        <p:blipFill>
          <a:blip r:embed="rId2"/>
          <a:stretch/>
        </p:blipFill>
        <p:spPr>
          <a:xfrm>
            <a:off x="1600200" y="1905120"/>
            <a:ext cx="5749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nt fiber used for making rope, burlap bag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3360" y="-839880"/>
            <a:ext cx="2657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ute-industry.com/gifs/jute-india.jpg"/>
          <p:cNvPicPr/>
          <p:nvPr/>
        </p:nvPicPr>
        <p:blipFill>
          <a:blip r:embed="rId2"/>
          <a:stretch/>
        </p:blipFill>
        <p:spPr>
          <a:xfrm>
            <a:off x="1295280" y="1371600"/>
            <a:ext cx="64771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A home or village based industry where family members make their own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www.youthkiawaaz.com/wp-content/uploads/2011/02/cottage-industry-india.jpg"/>
          <p:cNvPicPr/>
          <p:nvPr/>
        </p:nvPicPr>
        <p:blipFill>
          <a:blip r:embed="rId2"/>
          <a:stretch/>
        </p:blipFill>
        <p:spPr>
          <a:xfrm>
            <a:off x="1523880" y="1752480"/>
            <a:ext cx="53341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nataliepeart.files.wordpress.com/2011/10/caste_system-oo4t9n.jpg"/>
          <p:cNvPicPr/>
          <p:nvPr/>
        </p:nvPicPr>
        <p:blipFill>
          <a:blip r:embed="rId2"/>
          <a:stretch/>
        </p:blipFill>
        <p:spPr>
          <a:xfrm>
            <a:off x="2057400" y="1295280"/>
            <a:ext cx="4421160" cy="467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ttp://westerlund10.wikis.birmingham.k12.mi.us/file/view/reincarnation1.jpg/194017118/reincarnation1.jpg"/>
          <p:cNvPicPr/>
          <p:nvPr/>
        </p:nvPicPr>
        <p:blipFill>
          <a:blip r:embed="rId2"/>
          <a:stretch/>
        </p:blipFill>
        <p:spPr>
          <a:xfrm>
            <a:off x="2895480" y="1447920"/>
            <a:ext cx="29718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3360" y="-90180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://www.indianweekender.co.nz/Uploads/Articles/1685.jpg"/>
          <p:cNvPicPr/>
          <p:nvPr/>
        </p:nvPicPr>
        <p:blipFill>
          <a:blip r:embed="rId2"/>
          <a:stretch/>
        </p:blipFill>
        <p:spPr>
          <a:xfrm>
            <a:off x="1523880" y="1752480"/>
            <a:ext cx="56390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http://cdn.wn.com/pd/90/08/eb8d91d6ed00f79c167483107e32_grande.jpg"/>
          <p:cNvPicPr/>
          <p:nvPr/>
        </p:nvPicPr>
        <p:blipFill>
          <a:blip r:embed="rId2"/>
          <a:stretch/>
        </p:blipFill>
        <p:spPr>
          <a:xfrm>
            <a:off x="1600200" y="137160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7T00:03:57Z</dcterms:modified>
  <cp:revision>7</cp:revision>
  <dc:subject/>
  <dc:title>Chapter 5 – India Vocabulary</dc:title>
</cp:coreProperties>
</file>